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9165F-AA36-4ED2-B746-F2E299528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620D-81B8-4CEB-A281-832922D98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2A7F8-63B3-4B2D-B1C6-FAB3D6ED7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6C07-9847-4FFC-BCE1-804A86500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4CF13-7691-478D-AC33-0ECBDD69B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7B70B-3483-4044-B667-96183A8C0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9779-FE54-467D-AA3E-349D6262A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F6B7-C219-4253-A5B2-BC56A85BF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C9C2-8F37-4A61-83FB-FEA1D1E2E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64D4-1CC0-48FA-843D-16A224A5B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243FA-3CD8-494F-9DC5-646EB8166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0044F-1E65-48BA-BE14-07349839D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33F11-6C62-4B90-851A-EC04AFD74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F7499-B533-4BB9-8089-3D364B727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CBDDA-B778-4BA8-B9D0-18E204746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C79-5D15-414D-A9A9-750A97EB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78E-2EE0-479C-9151-69A4707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3DF-41A1-4774-9FA2-AC0E1DC7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054-E79C-4370-8B4D-AE4B2EBD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E13-62DB-466D-9CE0-D5E3B716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5E5-793E-4689-A6BC-A6B143F5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37A-8E9C-452E-A2CF-9F3A7FB0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2B9-DA48-4E6A-B69F-36576D1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0AC-01BA-4D1F-885D-4A052C0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B87-0061-4EE7-AB18-B3AFC41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F54-1760-4BBD-BB22-AFEA16D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F20-5D5C-484C-B7CB-964811B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6F96-87C7-4332-A38B-051E94D24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throw something “away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6280" y="1768320"/>
            <a:ext cx="44434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: Ford Model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s with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330200" y="1768320"/>
            <a:ext cx="74138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d to PPM &amp; Comp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79880" y="1768320"/>
            <a:ext cx="3716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minder.org (World Tr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.com (Informative and Inspiring Tal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DC.com (Cradle to Cra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Everyday 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C2C Certifi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More About The Products You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09640" y="1768320"/>
            <a:ext cx="66564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Island in the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06320" y="1768320"/>
            <a:ext cx="8663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 in Indone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92440" y="1768320"/>
            <a:ext cx="4691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3280" y="1879560"/>
            <a:ext cx="90694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: Population, Health, Inc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More Production &amp;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95440" y="1805040"/>
            <a:ext cx="7085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8160" y="1768320"/>
            <a:ext cx="3519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dle to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1040" y="1768320"/>
            <a:ext cx="89139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8534520" cy="499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7:24:21Z</dcterms:created>
  <dc:creator>Stephen Lothrop</dc:creator>
  <dc:description/>
  <dc:language>en-US</dc:language>
  <cp:lastModifiedBy>COCC User</cp:lastModifiedBy>
  <dcterms:modified xsi:type="dcterms:W3CDTF">2012-01-30T20:35:31Z</dcterms:modified>
  <cp:revision>4</cp:revision>
  <dc:subject/>
  <dc:title>What happens when you throw something “away”?</dc:title>
</cp:coreProperties>
</file>