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D839D-23CD-43D6-BE73-059C8F98E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E6D6C-63B7-4403-8A87-02594EE0A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EB5D8-21D5-45D4-A655-B8BF22BC8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12B62-A92E-4D9B-9F14-CCC44642F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D026D-2ADA-48F1-A776-718B6557F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00752-BA56-4241-905D-A94099851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5395C-3C9A-421F-9FBF-46D0C49DB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62CCA-3AB4-409B-8FA7-570934F62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EC821-0222-4942-BCF5-C1814A496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522E0-BA3F-44ED-A5C2-DBC3FD3D3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ED281-AA59-47A8-ACBA-3C3EF304C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07523-5089-4E6C-B706-88C1A185A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C7FF0-A226-40A1-AB6C-60DE9D583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D3FE0-D894-4AC0-9526-00AA637BC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588C4-D7B8-4801-9483-72696384B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6D3-167C-40CB-BFD2-25E80AE8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435-1330-412C-9DFA-2DC4CC80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FAF-6667-47E1-A118-3C389969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F1F-222A-4DF7-A0F3-D726B6D2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66F-D1B0-4CF4-B45B-0D202CF1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073-BB52-4A9C-BEB3-F3923B64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00E-3830-4E18-98FB-38F2A571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C28-AC03-45B1-B41A-3C08C053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AB6-C14F-4625-9EEF-E7F975A6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009-4FA3-45D9-8BA3-696790A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B39-816E-4418-A146-22FAC5C3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24A-AFD3-4463-B97A-1EFD30A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0D2F8-8C96-4E92-8E6E-E08DE41DA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throw something “away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16280" y="1768320"/>
            <a:ext cx="44434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: Ford Model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ys with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330200" y="1768320"/>
            <a:ext cx="74138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d to PPM &amp; Comp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79880" y="1768320"/>
            <a:ext cx="37162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minder.org (World Tre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.com (Informative and Inspiring Tal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DC.com (Cradle to Crad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Chan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Everyday 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C2C Certifi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More About The Products You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Island in the Pac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06320" y="1768320"/>
            <a:ext cx="8663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in Indone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92440" y="1768320"/>
            <a:ext cx="4691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03280" y="1879560"/>
            <a:ext cx="906948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: Population, Health, Inco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More Production &amp;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95440" y="1805040"/>
            <a:ext cx="7085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78160" y="1768320"/>
            <a:ext cx="3519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dle to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1040" y="1768320"/>
            <a:ext cx="89139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8534520" cy="499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7:24:21Z</dcterms:created>
  <dc:creator>Stephen Lothrop</dc:creator>
  <dc:description/>
  <dc:language>en-US</dc:language>
  <cp:lastModifiedBy>COCC User</cp:lastModifiedBy>
  <dcterms:modified xsi:type="dcterms:W3CDTF">2012-01-30T20:35:31Z</dcterms:modified>
  <cp:revision>4</cp:revision>
  <dc:subject/>
  <dc:title>What happens when you throw something “away”?</dc:title>
</cp:coreProperties>
</file>