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E693E-5EA4-4CD1-A7E1-9FEFC715E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FC8FA-4FE0-443A-A314-E5394C9BB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25C73-3DE2-4358-9F6F-F22868C0C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033C3-FEA6-4310-ADDA-4F6073E77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454ED-B167-47B3-8F20-D84CC7DD3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2A662-2AED-4731-8454-E90D9FA56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34399-3FA8-4679-AA7D-C5C1629BE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10E05-8886-4CF1-9EA8-93209087C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50A9D-4A81-4D0D-8039-CB23FB490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02647-3CAE-414D-B5C5-46DC9D5B2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3C273-68F5-405C-BFE8-738D30CAB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42B6D-0171-4307-AD20-268648A95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A4A63-9B31-4E7C-A048-7EE0A4C4E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4CDB4-B7C7-49CF-8081-07322A86D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69F1C-5448-458A-B08A-7C2E018E9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3F3-B809-4FBC-A3CD-2FBACA90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E78-4613-4CB8-B380-7B07A5B0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184-CADB-44AE-A0E7-A6B3EC6F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683-1197-46BD-A5DD-452D6158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276-D0D1-40CA-B85D-987F3BA9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1D4-2244-43A0-97E3-99228DEC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EEB-A339-4D55-9002-5BF66F1C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321-B3B2-44DC-AB19-0BED235A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5F0-D62E-475F-BFB8-9427D4C9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3D4-C831-4A3F-B3B6-18E3EE05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8B0-1657-4FF4-9F01-4341BC26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5AA-12DC-4DDC-BDFE-7DB56653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D8726-535C-4E34-8887-449BB56F2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when you throw something “away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16280" y="1768320"/>
            <a:ext cx="44434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: Ford Model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ys with 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330200" y="1768320"/>
            <a:ext cx="74138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d to PPM &amp; Compo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79880" y="1768320"/>
            <a:ext cx="37162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minder.org (World Tre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.com (Informative and Inspiring Tal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DC.com (Cradle to Crad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Chan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Everyday Purc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C2C Certifi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More About The Products You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Island in the Pac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06320" y="1768320"/>
            <a:ext cx="8663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in Indone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92440" y="1768320"/>
            <a:ext cx="46911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03280" y="1879560"/>
            <a:ext cx="906948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: Population, Health, Inco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More Production &amp;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95440" y="1805040"/>
            <a:ext cx="708516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78160" y="1768320"/>
            <a:ext cx="3519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dle to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1040" y="1768320"/>
            <a:ext cx="89139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1480" y="1768320"/>
            <a:ext cx="8534520" cy="499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7:24:21Z</dcterms:created>
  <dc:creator>Stephen Lothrop</dc:creator>
  <dc:description/>
  <dc:language>en-US</dc:language>
  <cp:lastModifiedBy>COCC User</cp:lastModifiedBy>
  <dcterms:modified xsi:type="dcterms:W3CDTF">2012-01-30T20:35:31Z</dcterms:modified>
  <cp:revision>4</cp:revision>
  <dc:subject/>
  <dc:title>What happens when you throw something “away”?</dc:title>
</cp:coreProperties>
</file>