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966E9-3B36-4A62-99B0-49EF8831D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E1E8F-9ED8-4FDE-9B4B-E6ED18393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DC9CB-64A3-4632-BEED-73B0FF13B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516E1-1E95-4F1F-A8A1-FAB5F6008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D5B7B-47C1-4947-98B2-364D90146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FF59F-3546-49FF-B5CD-DF647D4BE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C2F0-2093-4DFF-924E-3C33690C6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C2E97-3841-4393-9121-78EAF2CC5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26931-65DB-42A2-BBD3-19C9A22D0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F7E5-70E6-43E1-91E7-70E94FD8F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205DF-254E-469A-9042-25C420B2A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28EE9-D29A-4CA9-9D5A-E6180723B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3E702-6150-4919-AE2E-F362596D1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6FF56-0D95-4E68-A907-1EF58DD8C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E67B7-76D6-4282-9BB8-F991FC82A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6AE-92AE-4B44-A925-1CDF2FF1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56C-E674-4A22-A0F7-5299B8D3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45F-E0FA-4327-8137-7ACA50FC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77C-0A88-4C16-BC44-132D45C8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6F9-879F-4599-BED0-55175669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F62-0678-41CF-A6C6-5BF4CF3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00F-506B-43B9-920F-D612769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E14-74FA-486D-8EB2-61E765A4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B11-4A31-44A8-8A8B-6D958BEB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A2D-E9D4-475F-810C-39164DB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A91-4415-429A-82F0-BDEC360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6CC-F8AA-401D-84AE-EDA3FE53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F29A-C661-4C1C-A57F-5784FFD44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throw something “away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6280" y="1768320"/>
            <a:ext cx="44434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: Ford Model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s with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330200" y="1768320"/>
            <a:ext cx="74138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d to PPM &amp; Comp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79880" y="1768320"/>
            <a:ext cx="3716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minder.org (World Tre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.com (Informative and Inspiring Tal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DC.com (Cradle to Crad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Chan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Everyday 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C2C Certifi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More About The Products You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Island in the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06320" y="1768320"/>
            <a:ext cx="8663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in Indo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92440" y="1768320"/>
            <a:ext cx="4691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3280" y="1879560"/>
            <a:ext cx="90694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: Population, Health, Inc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More Production &amp;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95440" y="1805040"/>
            <a:ext cx="7085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8160" y="1768320"/>
            <a:ext cx="3519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dle to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1040" y="1768320"/>
            <a:ext cx="89139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8534520" cy="499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7:24:21Z</dcterms:created>
  <dc:creator>Stephen Lothrop</dc:creator>
  <dc:description/>
  <dc:language>en-US</dc:language>
  <cp:lastModifiedBy>COCC User</cp:lastModifiedBy>
  <dcterms:modified xsi:type="dcterms:W3CDTF">2012-01-30T20:35:31Z</dcterms:modified>
  <cp:revision>4</cp:revision>
  <dc:subject/>
  <dc:title>What happens when you throw something “away”?</dc:title>
</cp:coreProperties>
</file>