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71FB0-6142-41DC-9212-6BFC4B080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39A1D-FED1-4D26-AEFF-E864A96B7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A2972-24D1-4F25-BFA4-3052E77AC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524BC-6EC9-46D4-B9EE-917505C6F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39146-5D34-45B5-B992-F8C686939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C0EE2-03EC-47D4-985C-4AC695951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89B7E-3AA9-4D92-BECD-E1E26FA49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52B26-A28F-4D42-8EEA-B49CD35B4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9D825-6D2F-409B-ACD9-9467F0D86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6E10A-6B15-48EF-804E-48123AD93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EE04C-B172-4E05-A3F8-C411C78C1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35EB9-E891-4BF1-8618-1B47838C8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BE621-88C2-4570-B9B2-50B367B5D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E4BA6-2F83-42EA-9734-CA15CA77F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F6956-48D4-4739-8867-98BAAF570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0C3-72A8-4C42-8896-28613267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2E6-9B41-4F04-A586-8855487E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C22-7DCF-43A5-B33A-41D2DB8A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B3A-9792-40DD-B760-6489337B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62B-72A8-46B9-8F08-3A58A487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3F3-9432-40C5-8F95-BB4E34C1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255-3A50-4EF7-8D01-7AA1B7DD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5C6-AAA3-43E2-9CD3-ECD8DC88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AEB-58A5-43B0-9B1D-05F34EA4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B5F-B17A-4692-9B12-FF70A583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C83-7C7F-44E8-B318-3A5A14DC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53A-6F0E-4D32-A4B4-42A4AF35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9E253-2843-4B38-B958-44E02A570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when you throw something “away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16280" y="1768320"/>
            <a:ext cx="44434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: Ford Model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ys with 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330200" y="1768320"/>
            <a:ext cx="74138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d to PPM &amp; Compo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79880" y="1768320"/>
            <a:ext cx="37162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minder.org (World Tre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.com (Informative and Inspiring Tal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DC.com (Cradle to Crad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Chan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Everyday Purc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C2C Certifi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More About The Products You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Island in the Pac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06320" y="1768320"/>
            <a:ext cx="8663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in Indone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92440" y="1768320"/>
            <a:ext cx="46911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03280" y="1879560"/>
            <a:ext cx="906948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: Population, Health, Inco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More Production &amp;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95440" y="1805040"/>
            <a:ext cx="708516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78160" y="1768320"/>
            <a:ext cx="3519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dle to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1040" y="1768320"/>
            <a:ext cx="89139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1480" y="1768320"/>
            <a:ext cx="8534520" cy="499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7:24:21Z</dcterms:created>
  <dc:creator>Stephen Lothrop</dc:creator>
  <dc:description/>
  <dc:language>en-US</dc:language>
  <cp:lastModifiedBy>COCC User</cp:lastModifiedBy>
  <dcterms:modified xsi:type="dcterms:W3CDTF">2012-01-30T20:35:31Z</dcterms:modified>
  <cp:revision>4</cp:revision>
  <dc:subject/>
  <dc:title>What happens when you throw something “away”?</dc:title>
</cp:coreProperties>
</file>